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3C3-3CE5-4820-912E-CE8257FF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114-7F91-4F49-A4DC-BCBA237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845-AFDE-4051-B764-99CE80AA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82F-6CB5-456C-8B4E-7AD2399B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51D-6E43-48E0-821B-587B828E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7C9-61FD-4B79-8D8B-F9F9209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E3F-D38D-4F2B-AC98-F1316102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64E-3782-4714-8F6C-DA7F93E2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F25-1B1F-4A46-A93A-34B39225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C4E-F124-4F57-AEB1-F31B939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AB7-A1CE-4503-8A8B-4F96797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6E1-438F-4628-A0F2-F95CDB4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9677-614C-4326-BD94-40E577FF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2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st ta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gur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d that has the same meaning as another word is a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on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2 of the 4 strategies to use when writing the answer to a constructed response ques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ate the question in the answer, answer all parts of the question, use complete sentences, and use details to support your ans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you do when you know there are questions to answer after reading a pass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questions first so you know what to look for when you are rea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you do when you can’t figure out the answer to a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p it, mark it, and come back to it l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you do before you come to school on the morning of tes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breakfast, relax, and follow the same routine you normally wou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look here to find the context clues to help you figure out the meaning of the vocabulary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50/50 test taking strate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/50 means you eliminate the 2 answers you know are wr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author doesn’t directly state the main idea you need to _____ or guess what it 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compare two things you are finding the _____ between the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ood strategy to do if you don’t understand what you just 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n’t understand what you read you should re-read the sentence or paragraph that doesn’t make sen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looking at pictures or reading the title sometimes you can _____ what will happen in the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6765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look at words or phrases in th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3 or more things you tell when you do a re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telling should include: title, author, main character, setting, main events in the correct order, and res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_____ compares two things using like, as, than, or resem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ying, “She has a heart of stone,” is an example of a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purpose for writing a letter to the editor is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uade or in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purpose of the Anne Frank play was to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look for the meaning of the prefix, suffix, and root of the word you are looking at the ______ of the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reality contradicts what we expect, it’s called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___ of the story is the lesson or message the author wants you to take from the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in of related events that tells us what happens in the story is the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character has a conflict within themselves it is an ______ confli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ime or place in a story is the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st exciting or suspenseful part of the story is the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first thing you do to figure out an analo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relationship between the first pair of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iom “you better watch yourself” means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better be careful about your behav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LSH High School</cp:lastModifiedBy>
  <dcterms:modified xsi:type="dcterms:W3CDTF">2008-05-27T00:39:39Z</dcterms:modified>
  <cp:revision>41</cp:revision>
  <dc:subject/>
  <dc:title>No Slide Title</dc:title>
</cp:coreProperties>
</file>